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169-B998-4F82-8E79-B9AFE379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796-3F0A-462B-85EA-42A61775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B99-28F2-4952-980A-A96E714F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08A-6107-43A6-8E2E-1DEFA842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CBB-8EEC-4D71-B2F8-A90E4E42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1F5-C449-49E7-AF58-D825468A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17A-F3A3-43E7-811D-F3A03D36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DE7-7D56-485A-B209-48454154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171-9E3D-4A15-8460-46DCCBE8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211-56D6-43F7-A2D3-EBA9FFC8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656-67CD-4FA0-9703-DFF47FFC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0FB-7839-4D66-913D-6734C0D6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AA0F-7F10-4580-8DF8-E34C00010966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20.png"/><Relationship Id="rId38" Type="http://schemas.openxmlformats.org/officeDocument/2006/relationships/image" Target="../media/image21.png"/><Relationship Id="rId39" Type="http://schemas.openxmlformats.org/officeDocument/2006/relationships/image" Target="../media/image22.png"/><Relationship Id="rId4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PT" sz="4000" spc="-1" strike="noStrike" u="sng">
                <a:solidFill>
                  <a:srgbClr val="000000"/>
                </a:solidFill>
                <a:uFillTx/>
                <a:latin typeface="Arial"/>
              </a:rPr>
              <a:t>O Mundo em Desenvolvimen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7a9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 que é um País Desenvolvido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tilizamos o conceito de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País desenvolvid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quando nos referimos  aos países que têm alto nível de desenvolvimento económico e social.. Os países desenvolvidos normalmente são os que apresentam um Índice de Desenvolvimento Humano elevado. Os Países que não têm estas características são classificados como </a:t>
            </a:r>
            <a:r>
              <a:rPr b="1" lang="pt-PT" sz="2000" spc="-1" strike="noStrike" u="sng">
                <a:solidFill>
                  <a:srgbClr val="ffcc00"/>
                </a:solidFill>
                <a:uFillTx/>
                <a:latin typeface="Arial"/>
              </a:rPr>
              <a:t>Países em vias de desenvolviment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PT" sz="2000" spc="-1" strike="noStrike" u="sng">
                <a:solidFill>
                  <a:srgbClr val="ffcc00"/>
                </a:solidFill>
                <a:uFillTx/>
                <a:latin typeface="Arial"/>
              </a:rPr>
              <a:t>Subdesenvolvido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s Países mais Desenv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orueg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ustrál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slând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anad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rland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aíses Baix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uéc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Franç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uíç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Japã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Luxemburg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Finlând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stados Unid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Áustr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spanh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Dinamar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Bélg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tál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Liechtenste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8"/>
          <p:cNvSpPr/>
          <p:nvPr/>
        </p:nvSpPr>
        <p:spPr>
          <a:xfrm>
            <a:off x="4859280" y="1197000"/>
            <a:ext cx="40384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9" descr="20px-Flag_of_Belgium_%28civil%29"/>
          <p:cNvPicPr/>
          <p:nvPr/>
        </p:nvPicPr>
        <p:blipFill>
          <a:blip r:embed="rId20"/>
          <a:stretch/>
        </p:blipFill>
        <p:spPr>
          <a:xfrm>
            <a:off x="539640" y="5950080"/>
            <a:ext cx="190440" cy="123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40"/>
          <p:cNvSpPr/>
          <p:nvPr/>
        </p:nvSpPr>
        <p:spPr>
          <a:xfrm>
            <a:off x="4932360" y="907920"/>
            <a:ext cx="40384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ova Zelând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Reino Uni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lemanh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ingapu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Hong Ko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Gréc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oreia do Su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sra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ndor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slovê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Brune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Kuwa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hip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Qat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ortug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mirados Árab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República Che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Barbad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28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Aspectos Chave para o desenvolvimento de um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ão utilizados alguns critérios que podem ditar se um país é desenvolvido ou não. Um dos critérios utilizados é a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Renda per Capit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e o valor do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PIB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de cada país. Outro critério económico é a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Industrializaçã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 Os países onde os sectores terciário e quaternário da indústria predominam na economia são considerados desenvolvidos. Mais recentemente, uma outra medida, 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Índice de Desenvolvimento Human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(IDH), começou a ser utilizado. O IDH mede três dimensões: </a:t>
            </a:r>
            <a:r>
              <a:rPr b="0" lang="pt-PT" sz="2000" spc="-1" strike="noStrike">
                <a:solidFill>
                  <a:srgbClr val="cccc00"/>
                </a:solidFill>
                <a:latin typeface="Arial"/>
              </a:rPr>
              <a:t>riquez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2000" spc="-1" strike="noStrike">
                <a:solidFill>
                  <a:srgbClr val="cccc00"/>
                </a:solidFill>
                <a:latin typeface="Arial"/>
              </a:rPr>
              <a:t>educação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PT" sz="2000" spc="-1" strike="noStrike">
                <a:solidFill>
                  <a:srgbClr val="cccc00"/>
                </a:solidFill>
                <a:latin typeface="Arial"/>
              </a:rPr>
              <a:t>esperança média de vid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e é uma maneira de avaliação e medida do bem-estar de uma determinada popul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28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Diferenças entre o nível de desenvolvimento dos pa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odem existir diferenças entre o nível de desenvolvimento dos países devido à origens históricas que deixaram marcas profundas nos países, como a dominação, independência e exploração das colónias, à cultura, à educação, ao nível médio de vid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consumo, por parte das sociedades dos países desenvolvidos é muito alto. A luta por melhores condições de vida da população é visível. A democracia está totalmente implementada nas nações desenvolvidas. Há nos países desenvolvidos uma densa e articulada rede de cidades. O conceito de "país desenvolvido" é apenas uma referência económica e política, não reflectindo necessariamente o grau real de desenvolvimento social e cultural. Há quem questione se os países onde não há direitos civis e políticos, onde não existe segurança social e onde ainda se aplica a pena de morte e os maus tratos aos reclusos, serão mesmo desenvolvidos, ou se apenas sofreram de crescimento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28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6533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s Países desenvolvidos é que, na maioria das vezes, beneficiam das matérias-primas, existentes, nos países subdesenvolvidos, e estes andam à “mercê” do poder económico dos prim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ânia Azev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uns_c_tanto"/>
          <p:cNvPicPr/>
          <p:nvPr/>
        </p:nvPicPr>
        <p:blipFill>
          <a:blip r:embed="rId1"/>
          <a:stretch/>
        </p:blipFill>
        <p:spPr>
          <a:xfrm>
            <a:off x="6084720" y="3429000"/>
            <a:ext cx="28576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2:22:02Z</dcterms:created>
  <dc:creator>Tania Azevedo</dc:creator>
  <dc:description/>
  <dc:language>en-US</dc:language>
  <cp:lastModifiedBy>rute</cp:lastModifiedBy>
  <dcterms:modified xsi:type="dcterms:W3CDTF">2009-12-24T13:15:47Z</dcterms:modified>
  <cp:revision>18</cp:revision>
  <dc:subject/>
  <dc:title>O Desenvolvimento no Mundo</dc:title>
</cp:coreProperties>
</file>